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A6F-E8AE-4C16-9B5B-33241AE3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DAB-E4B6-4CF3-A995-57BF022E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26F-D48F-4215-B79E-260C8CEC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B5C-F106-4DC4-9A37-24A5A642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B5EC-DD4F-4976-84F8-D3C1CAB6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DD04-F502-4D44-B550-EABFC589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D662-351C-4399-A72C-F4B5CDDE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1A0B-076A-4A10-BD15-4554C079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AFF9-42A0-455C-BE0C-32F64524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FD44-3E1B-420A-90C7-3D6B5B95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9E76-FD89-4D4F-B2B8-3261EC1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D4C-9C93-4D8B-BD33-6A12DE5A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6C15-7179-4378-BA2C-86F0E6AE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0E65-E13A-491C-BACE-93E860E6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6E8C-A1CC-4728-953E-9EAC25BE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C7AB-A3D1-4125-8442-A2E51E5D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AF09-BBF0-4599-ACF0-9F64AB58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ACFC-0AAD-4650-9A75-98EE54A8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C17D2-2CE7-4E63-88DC-EDD6C393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0F5D-89EA-4D31-9DBF-84270A58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ECCDB-D85D-41F7-A4F7-4856B28B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5C92-6A57-47D8-8D1D-67618AE7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0D6-7B1A-4A0F-A095-4442554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5758-014D-4B6E-B4F8-7E0E029C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F1EFB-6DD9-4FCF-A803-AF002197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5A6F4-B0D6-4BBB-808F-9F683BDA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DF2D-200E-4D0D-9A1B-55BC23D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BE76-B2AE-496D-9720-FE083F4B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51AB-6674-4755-B8F0-E1EF34F6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46D5-4984-4A76-9CDD-23CF004F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E2BF-854A-4118-9EB4-23C15830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31B5E-9AE8-4341-9F10-AB511D22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EFD8D-70DB-42BB-A8CD-99BBC850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8E6-8ADD-4F01-9D17-80DEE5AE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47ED-525B-41E6-876C-352A4189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D9DA-DEA6-4EC6-A14D-FFB83E64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44472-D432-4F31-8EB5-C4D74D84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9BFF3-436B-4DC0-AC2D-7751D605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EB568-4D39-49CB-A4D2-024EFD2C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60B66-A405-41C2-BD9D-6EDC4AE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4DB5-1933-4B62-B752-20C8D4B3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291E-AD34-4E1F-ACBF-F815463C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0AB78-25EF-4619-88C3-B11A7C4E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B9576-4CCE-4EBE-A2D4-4E3F4E98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5A2-9295-442A-A059-BC1EE27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0462B-2908-47FB-B966-874F10FC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9707F-5B72-4CA7-9753-CB281789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69C38-90C3-49BB-940A-02748A81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12F1-34A3-4435-A5ED-101F2FEC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4FAD3-A880-451E-8977-47FCADAB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7D3BE-D102-4A97-BE98-5E7DF932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ADFC7-0718-4604-991E-FC8EDEA3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91AC6-0FA4-4AA4-BB6F-7D77FCF0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C4993-8A4E-4693-BA1E-E6F77013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438D4-1AEF-4AFC-9710-14434FBD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0F2-6D0C-4B7D-A31D-A4427A4E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E3B0F-86AA-48D7-AAD4-26E36935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FFA-4252-48CD-A868-EF486FB9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5CF-E754-4930-BBFD-00167565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995-0685-4663-89AB-7E593662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F3CB-3EA6-48CB-A3E3-58A043C3AF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C3BF-BCD3-4C60-AB49-FCEEA40611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819D-6A5E-4089-817D-58CCE7E1E59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536E-D6ED-4E00-BAB0-6529BFFDF5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90F9-A698-4737-92E7-81482E779FF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Подзаголовок 2"/>
          <p:cNvGrpSpPr/>
          <p:nvPr/>
        </p:nvGrpSpPr>
        <p:grpSpPr>
          <a:xfrm>
            <a:off x="2139840" y="3151080"/>
            <a:ext cx="6265800" cy="1579680"/>
            <a:chOff x="2139840" y="3151080"/>
            <a:chExt cx="6265800" cy="1579680"/>
          </a:xfrm>
        </p:grpSpPr>
        <p:pic>
          <p:nvPicPr>
            <p:cNvPr id="229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2139840" y="3151080"/>
              <a:ext cx="626580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195640" y="3200400"/>
              <a:ext cx="4537080" cy="14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mbria"/>
                </a:rPr>
                <a:t>Составитель:                                 преподаватель                                                   МБУ ДО «Нюксенская  ДМШ» Демина Светлана Гурье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769080" cy="1872000"/>
          </a:xfrm>
          <a:prstGeom prst="rect">
            <a:avLst/>
          </a:prstGeom>
          <a:solidFill>
            <a:srgbClr val="9b2d1f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"/>
              </a:rPr>
              <a:t>Устройство гармони, 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Cambria"/>
              </a:rPr>
              <a:t>баяна, аккордеона</a:t>
            </a:r>
            <a:br>
              <a:rPr sz="3600"/>
            </a:b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232" name="Управляющая кнопка: далее 5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233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10" descr="C:\Users\Светлана\AppData\Local\Temp\Rar$DI02.807\гармонь2.jpeg"/>
          <p:cNvPicPr/>
          <p:nvPr/>
        </p:nvPicPr>
        <p:blipFill>
          <a:blip r:embed="rId3"/>
          <a:stretch/>
        </p:blipFill>
        <p:spPr>
          <a:xfrm>
            <a:off x="-19080" y="1438200"/>
            <a:ext cx="3036960" cy="3146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C:\Users\Светлана\AppData\Local\Temp\Rar$DI00.914\баян3.jpeg"/>
          <p:cNvPicPr/>
          <p:nvPr/>
        </p:nvPicPr>
        <p:blipFill>
          <a:blip r:embed="rId4"/>
          <a:stretch/>
        </p:blipFill>
        <p:spPr>
          <a:xfrm>
            <a:off x="6132600" y="2103480"/>
            <a:ext cx="2871720" cy="2504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Users\Светлана\AppData\Local\Temp\Rar$DI03.454\аккордеон4.jpeg"/>
          <p:cNvPicPr/>
          <p:nvPr/>
        </p:nvPicPr>
        <p:blipFill>
          <a:blip r:embed="rId5"/>
          <a:stretch/>
        </p:blipFill>
        <p:spPr>
          <a:xfrm>
            <a:off x="3157560" y="4675320"/>
            <a:ext cx="320688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ДУМАЙ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Облако 3"/>
          <p:cNvSpPr/>
          <p:nvPr/>
        </p:nvSpPr>
        <p:spPr>
          <a:xfrm>
            <a:off x="3203640" y="1484280"/>
            <a:ext cx="3362400" cy="3673440"/>
          </a:xfrm>
          <a:custGeom>
            <a:avLst/>
            <a:gdLst>
              <a:gd name="textAreaLeft" fmla="*/ 463320 w 3362400"/>
              <a:gd name="textAreaRight" fmla="*/ 2660040 w 3362400"/>
              <a:gd name="textAreaTop" fmla="*/ 554760 h 3673440"/>
              <a:gd name="textAreaBottom" fmla="*/ 2948400 h 3673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885080" y="551664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10815"/>
                </a:moveTo>
                <a:lnTo>
                  <a:pt x="17806" y="3808"/>
                </a:lnTo>
                <a:lnTo>
                  <a:pt x="17806" y="17821"/>
                </a:lnTo>
                <a:close/>
              </a:path>
            </a:pathLst>
          </a:custGeom>
          <a:solidFill>
            <a:srgbClr val="c3c1c1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РАВИЛЬНО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96" name="Управляющая кнопка: далее 4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297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Улыбающееся лицо 5"/>
          <p:cNvSpPr/>
          <p:nvPr/>
        </p:nvSpPr>
        <p:spPr>
          <a:xfrm>
            <a:off x="2987640" y="1628640"/>
            <a:ext cx="3529080" cy="3313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af3408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38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БАЯ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усский язычковый кнопочно-пневматический музыкальный инструмент с полным хроматическим звукорядом на правой клавиатуре, басами и готовым (аккордовым)  или готово-выборным аккомпанементом на левой. Инструмент относится к современной разновидности ручной гармоники. Изобретен  баян в 1907 году петербургским  мастером Петром Егоровичем  Стерлиговым и назван в честь древнерусского певца-сказителя Бояна. </a:t>
            </a:r>
            <a:br>
              <a:rPr sz="32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50560" y="7029360"/>
            <a:ext cx="8435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02" name="Управляющая кнопка: далее 3"/>
          <p:cNvGrpSpPr/>
          <p:nvPr/>
        </p:nvGrpSpPr>
        <p:grpSpPr>
          <a:xfrm>
            <a:off x="8047080" y="5784840"/>
            <a:ext cx="1152360" cy="1152360"/>
            <a:chOff x="8047080" y="5784840"/>
            <a:chExt cx="1152360" cy="1152360"/>
          </a:xfrm>
        </p:grpSpPr>
        <p:pic>
          <p:nvPicPr>
            <p:cNvPr id="303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47080" y="578484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101080" y="581508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-31644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Вопрос  4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6c5d"/>
                </a:solidFill>
                <a:latin typeface="Cambria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Что соединяет правую и левую  клавиатуру  баяна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ПУХ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МЕХ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07" name="Управляющая кнопка: далее 8"/>
          <p:cNvGrpSpPr/>
          <p:nvPr/>
        </p:nvGrpSpPr>
        <p:grpSpPr>
          <a:xfrm>
            <a:off x="7686720" y="5559480"/>
            <a:ext cx="1152360" cy="1152360"/>
            <a:chOff x="7686720" y="5559480"/>
            <a:chExt cx="1152360" cy="1152360"/>
          </a:xfrm>
        </p:grpSpPr>
        <p:pic>
          <p:nvPicPr>
            <p:cNvPr id="308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68672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740720" y="5589720"/>
              <a:ext cx="104148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Управляющая кнопка: далее 6">
            <a:hlinkClick r:id="rId2" action="ppaction://hlinksldjump"/>
          </p:cNvPr>
          <p:cNvSpPr/>
          <p:nvPr/>
        </p:nvSpPr>
        <p:spPr>
          <a:xfrm>
            <a:off x="2627280" y="3860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Управляющая кнопка: далее 7">
            <a:hlinkClick r:id="rId3" action="ppaction://hlinksldjump"/>
          </p:cNvPr>
          <p:cNvSpPr/>
          <p:nvPr/>
        </p:nvSpPr>
        <p:spPr>
          <a:xfrm>
            <a:off x="2627280" y="256536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ДУМАЙ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Облако 3"/>
          <p:cNvSpPr/>
          <p:nvPr/>
        </p:nvSpPr>
        <p:spPr>
          <a:xfrm>
            <a:off x="3203640" y="1484280"/>
            <a:ext cx="3362400" cy="3673440"/>
          </a:xfrm>
          <a:custGeom>
            <a:avLst/>
            <a:gdLst>
              <a:gd name="textAreaLeft" fmla="*/ 463320 w 3362400"/>
              <a:gd name="textAreaRight" fmla="*/ 2660040 w 3362400"/>
              <a:gd name="textAreaTop" fmla="*/ 554760 h 3673440"/>
              <a:gd name="textAreaBottom" fmla="*/ 2948400 h 3673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92d050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812000" y="5589720"/>
            <a:ext cx="1042920" cy="10411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37" h="21600">
                <a:moveTo>
                  <a:pt x="0" y="0"/>
                </a:moveTo>
                <a:lnTo>
                  <a:pt x="21637" y="0"/>
                </a:lnTo>
                <a:lnTo>
                  <a:pt x="21637" y="21600"/>
                </a:lnTo>
                <a:lnTo>
                  <a:pt x="0" y="21600"/>
                </a:lnTo>
                <a:close/>
              </a:path>
              <a:path fill="lightenLess" w="21637" h="21600">
                <a:moveTo>
                  <a:pt x="0" y="0"/>
                </a:moveTo>
                <a:lnTo>
                  <a:pt x="21637" y="0"/>
                </a:lnTo>
                <a:lnTo>
                  <a:pt x="20237" y="1400"/>
                </a:lnTo>
                <a:lnTo>
                  <a:pt x="1400" y="1400"/>
                </a:lnTo>
                <a:close/>
              </a:path>
              <a:path fill="darken" w="21637" h="21600">
                <a:moveTo>
                  <a:pt x="21637" y="0"/>
                </a:moveTo>
                <a:lnTo>
                  <a:pt x="21637" y="21600"/>
                </a:lnTo>
                <a:lnTo>
                  <a:pt x="20237" y="20200"/>
                </a:lnTo>
                <a:lnTo>
                  <a:pt x="20237" y="1400"/>
                </a:lnTo>
                <a:close/>
              </a:path>
              <a:path fill="darkenLess" w="21637" h="21600">
                <a:moveTo>
                  <a:pt x="21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7" y="20200"/>
                </a:lnTo>
                <a:close/>
              </a:path>
              <a:path fill="lighten" w="21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7" h="21600">
                <a:moveTo>
                  <a:pt x="3812" y="10800"/>
                </a:moveTo>
                <a:lnTo>
                  <a:pt x="17825" y="3794"/>
                </a:lnTo>
                <a:lnTo>
                  <a:pt x="17825" y="17806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РАВИЛЬНО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18" name="Управляющая кнопка: далее 4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319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Улыбающееся лицо 5"/>
          <p:cNvGrpSpPr/>
          <p:nvPr/>
        </p:nvGrpSpPr>
        <p:grpSpPr>
          <a:xfrm>
            <a:off x="2932200" y="1596960"/>
            <a:ext cx="3639960" cy="3425760"/>
            <a:chOff x="2932200" y="1596960"/>
            <a:chExt cx="3639960" cy="3425760"/>
          </a:xfrm>
        </p:grpSpPr>
        <p:pic>
          <p:nvPicPr>
            <p:cNvPr id="322" name="Улыбающееся лицо 5" descr=""/>
            <p:cNvPicPr/>
            <p:nvPr/>
          </p:nvPicPr>
          <p:blipFill>
            <a:blip r:embed="rId2"/>
            <a:stretch/>
          </p:blipFill>
          <p:spPr>
            <a:xfrm>
              <a:off x="2932200" y="1596960"/>
              <a:ext cx="363996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505320" y="2114640"/>
              <a:ext cx="2493720" cy="23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-3160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Вопрос  5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6c5d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Как называется приспособление для вдувания и выдувания воздуха на баяне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КЛАВИША ДЛЯ ИГРЫ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КНОПКА СПУСКА МЕХ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26" name="Управляющая кнопка: далее 8"/>
          <p:cNvGrpSpPr/>
          <p:nvPr/>
        </p:nvGrpSpPr>
        <p:grpSpPr>
          <a:xfrm>
            <a:off x="7827840" y="5632560"/>
            <a:ext cx="1150920" cy="1152360"/>
            <a:chOff x="7827840" y="5632560"/>
            <a:chExt cx="1150920" cy="1152360"/>
          </a:xfrm>
        </p:grpSpPr>
        <p:pic>
          <p:nvPicPr>
            <p:cNvPr id="327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827840" y="5632560"/>
              <a:ext cx="11509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885080" y="5661000"/>
              <a:ext cx="104292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Управляющая кнопка: далее 4">
            <a:hlinkClick r:id="rId2" action="ppaction://hlinksldjump"/>
          </p:cNvPr>
          <p:cNvSpPr/>
          <p:nvPr/>
        </p:nvSpPr>
        <p:spPr>
          <a:xfrm>
            <a:off x="5724360" y="270828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Управляющая кнопка: далее 5">
            <a:hlinkClick r:id="rId3" action="ppaction://hlinksldjump"/>
          </p:cNvPr>
          <p:cNvSpPr/>
          <p:nvPr/>
        </p:nvSpPr>
        <p:spPr>
          <a:xfrm>
            <a:off x="5724360" y="400536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ДУМАЙ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Облако 3"/>
          <p:cNvSpPr/>
          <p:nvPr/>
        </p:nvSpPr>
        <p:spPr>
          <a:xfrm>
            <a:off x="3203640" y="1484280"/>
            <a:ext cx="3362400" cy="3673440"/>
          </a:xfrm>
          <a:custGeom>
            <a:avLst/>
            <a:gdLst>
              <a:gd name="textAreaLeft" fmla="*/ 463320 w 3362400"/>
              <a:gd name="textAreaRight" fmla="*/ 2660040 w 3362400"/>
              <a:gd name="textAreaTop" fmla="*/ 554760 h 3673440"/>
              <a:gd name="textAreaBottom" fmla="*/ 2948400 h 3673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70c0"/>
          </a:solidFill>
          <a:ln w="9360">
            <a:solidFill>
              <a:srgbClr val="837151"/>
            </a:solidFill>
            <a:round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Управляющая кнопка: назад 5"/>
          <p:cNvGrpSpPr/>
          <p:nvPr/>
        </p:nvGrpSpPr>
        <p:grpSpPr>
          <a:xfrm>
            <a:off x="7759800" y="5486400"/>
            <a:ext cx="1152360" cy="1152360"/>
            <a:chOff x="7759800" y="5486400"/>
            <a:chExt cx="1152360" cy="1152360"/>
          </a:xfrm>
        </p:grpSpPr>
        <p:pic>
          <p:nvPicPr>
            <p:cNvPr id="335" name="Управляющая кнопка: назад 5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48640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812000" y="551664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РАВИЛЬНО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39" name="Управляющая кнопка: далее 4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340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Улыбающееся лицо 5"/>
          <p:cNvGrpSpPr/>
          <p:nvPr/>
        </p:nvGrpSpPr>
        <p:grpSpPr>
          <a:xfrm>
            <a:off x="2932200" y="1596960"/>
            <a:ext cx="3639960" cy="3425760"/>
            <a:chOff x="2932200" y="1596960"/>
            <a:chExt cx="3639960" cy="3425760"/>
          </a:xfrm>
        </p:grpSpPr>
        <p:pic>
          <p:nvPicPr>
            <p:cNvPr id="343" name="Улыбающееся лицо 5" descr=""/>
            <p:cNvPicPr/>
            <p:nvPr/>
          </p:nvPicPr>
          <p:blipFill>
            <a:blip r:embed="rId2"/>
            <a:stretch/>
          </p:blipFill>
          <p:spPr>
            <a:xfrm>
              <a:off x="2932200" y="1596960"/>
              <a:ext cx="363996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505320" y="2114640"/>
              <a:ext cx="2493720" cy="23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-3160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Вопрос  6 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620640"/>
            <a:ext cx="86868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Что одевается на плечи для игры на баяне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ЛЕНТЫ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РЕМН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47" name="Управляющая кнопка: далее 8"/>
          <p:cNvGrpSpPr/>
          <p:nvPr/>
        </p:nvGrpSpPr>
        <p:grpSpPr>
          <a:xfrm>
            <a:off x="7759800" y="5486400"/>
            <a:ext cx="1152360" cy="1152360"/>
            <a:chOff x="7759800" y="5486400"/>
            <a:chExt cx="1152360" cy="1152360"/>
          </a:xfrm>
        </p:grpSpPr>
        <p:pic>
          <p:nvPicPr>
            <p:cNvPr id="348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48640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7812000" y="551664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Управляющая кнопка: далее 4"/>
          <p:cNvSpPr/>
          <p:nvPr/>
        </p:nvSpPr>
        <p:spPr>
          <a:xfrm>
            <a:off x="3059280" y="2924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Управляющая кнопка: далее 5"/>
          <p:cNvSpPr/>
          <p:nvPr/>
        </p:nvSpPr>
        <p:spPr>
          <a:xfrm>
            <a:off x="3059280" y="4149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-674640"/>
            <a:ext cx="8964720" cy="7199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entury"/>
              </a:rPr>
              <a:t>ГАРМОНЬ</a:t>
            </a:r>
            <a:r>
              <a:rPr b="0" lang="ru-RU" sz="6000" spc="-1" strike="noStrike">
                <a:solidFill>
                  <a:srgbClr val="00b050"/>
                </a:solidFill>
                <a:latin typeface="Century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mbria"/>
              </a:rPr>
              <a:t>(</a:t>
            </a:r>
            <a:r>
              <a:rPr b="0" i="1" lang="ru-RU" sz="2800" spc="-1" strike="noStrike">
                <a:solidFill>
                  <a:srgbClr val="0070c0"/>
                </a:solidFill>
                <a:latin typeface="Cambria"/>
              </a:rPr>
              <a:t>разговорное – гармошка,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ambria"/>
              </a:rPr>
              <a:t>от греческого – созвучный, стройный, гармоничный</a:t>
            </a:r>
            <a:r>
              <a:rPr b="0" lang="ru-RU" sz="2800" spc="-1" strike="noStrike">
                <a:solidFill>
                  <a:srgbClr val="0070c0"/>
                </a:solidFill>
                <a:latin typeface="Cambria"/>
              </a:rPr>
              <a:t>)-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язычковый кнопочно-пневматический музыкальный инструмент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Гармонь была изобретена в Герман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в 19 веке Кристианом Бушманом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Гармонями называют все ручные гармоники, не относящиеся к баяну и аккордеону.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6858000"/>
            <a:ext cx="843588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40" name="Управляющая кнопка: далее 3"/>
          <p:cNvGrpSpPr/>
          <p:nvPr/>
        </p:nvGrpSpPr>
        <p:grpSpPr>
          <a:xfrm>
            <a:off x="7827840" y="5559480"/>
            <a:ext cx="1150920" cy="1152360"/>
            <a:chOff x="7827840" y="5559480"/>
            <a:chExt cx="1150920" cy="1152360"/>
          </a:xfrm>
        </p:grpSpPr>
        <p:pic>
          <p:nvPicPr>
            <p:cNvPr id="241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827840" y="5559480"/>
              <a:ext cx="11509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885080" y="5589720"/>
              <a:ext cx="104148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ДУМАЙ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54" name="Облако 3"/>
          <p:cNvGrpSpPr/>
          <p:nvPr/>
        </p:nvGrpSpPr>
        <p:grpSpPr>
          <a:xfrm>
            <a:off x="3151080" y="1468440"/>
            <a:ext cx="3468960" cy="3780000"/>
            <a:chOff x="3151080" y="1468440"/>
            <a:chExt cx="3468960" cy="3780000"/>
          </a:xfrm>
        </p:grpSpPr>
        <p:pic>
          <p:nvPicPr>
            <p:cNvPr id="355" name="Облако 3" descr=""/>
            <p:cNvPicPr/>
            <p:nvPr/>
          </p:nvPicPr>
          <p:blipFill>
            <a:blip r:embed="rId1"/>
            <a:stretch/>
          </p:blipFill>
          <p:spPr>
            <a:xfrm>
              <a:off x="3151080" y="1468440"/>
              <a:ext cx="3468960" cy="37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666960" y="2039760"/>
              <a:ext cx="2197440" cy="23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99d93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РАВИЛЬНО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60" name="Управляющая кнопка: далее 4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361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Улыбающееся лицо 5"/>
          <p:cNvSpPr/>
          <p:nvPr/>
        </p:nvSpPr>
        <p:spPr>
          <a:xfrm>
            <a:off x="2987640" y="1557360"/>
            <a:ext cx="3529080" cy="3311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af3408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6037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entury"/>
              </a:rPr>
              <a:t>АККОРДЕОН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mbria"/>
              </a:rPr>
              <a:t>(от французского - </a:t>
            </a:r>
            <a:r>
              <a:rPr b="0" i="1" lang="en-US" sz="2800" spc="-1" strike="noStrike">
                <a:solidFill>
                  <a:srgbClr val="ff0000"/>
                </a:solidFill>
                <a:latin typeface="Cambria"/>
              </a:rPr>
              <a:t>accordeon) </a:t>
            </a:r>
            <a:r>
              <a:rPr b="0" i="1" lang="ru-RU" sz="2800" spc="-1" strike="noStrike">
                <a:solidFill>
                  <a:srgbClr val="0070c0"/>
                </a:solidFill>
                <a:latin typeface="Cambria"/>
              </a:rPr>
              <a:t>-</a:t>
            </a:r>
            <a:r>
              <a:rPr b="0" i="1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язычковый клавишно-пневматический музыкальный инструмент с полным хроматическим звукорядом на правой клавиатуре, басами и готовым аккомпанементом на лево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временная разновидность ручной гармоники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В 1829 году это название дал венский органный мастер Кирилл  Демиан усовершенствованной им гармоники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 rot="10800000">
            <a:off x="914400" y="6858000"/>
            <a:ext cx="77724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66" name="Управляющая кнопка: далее 3"/>
          <p:cNvGrpSpPr/>
          <p:nvPr/>
        </p:nvGrpSpPr>
        <p:grpSpPr>
          <a:xfrm>
            <a:off x="7900920" y="5784840"/>
            <a:ext cx="1150920" cy="1152360"/>
            <a:chOff x="7900920" y="5784840"/>
            <a:chExt cx="1150920" cy="1152360"/>
          </a:xfrm>
        </p:grpSpPr>
        <p:pic>
          <p:nvPicPr>
            <p:cNvPr id="367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00920" y="5784840"/>
              <a:ext cx="11509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956720" y="581508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-3160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Вопрос  7 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44646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Что находится на правой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клавиатуре  аккордеона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СТРУНЫ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КЛАВИШ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71" name="Управляющая кнопка: далее 7"/>
          <p:cNvGrpSpPr/>
          <p:nvPr/>
        </p:nvGrpSpPr>
        <p:grpSpPr>
          <a:xfrm>
            <a:off x="7900920" y="5559480"/>
            <a:ext cx="1150920" cy="1152360"/>
            <a:chOff x="7900920" y="5559480"/>
            <a:chExt cx="1150920" cy="1152360"/>
          </a:xfrm>
        </p:grpSpPr>
        <p:pic>
          <p:nvPicPr>
            <p:cNvPr id="372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00920" y="5559480"/>
              <a:ext cx="11509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95672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Управляющая кнопка: далее 10"/>
          <p:cNvSpPr/>
          <p:nvPr/>
        </p:nvSpPr>
        <p:spPr>
          <a:xfrm>
            <a:off x="3564000" y="2852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Управляющая кнопка: далее 11"/>
          <p:cNvSpPr/>
          <p:nvPr/>
        </p:nvSpPr>
        <p:spPr>
          <a:xfrm>
            <a:off x="3564000" y="4149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ДУМАЙ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Облако 3"/>
          <p:cNvSpPr/>
          <p:nvPr/>
        </p:nvSpPr>
        <p:spPr>
          <a:xfrm>
            <a:off x="3203640" y="1484280"/>
            <a:ext cx="3362400" cy="3673440"/>
          </a:xfrm>
          <a:custGeom>
            <a:avLst/>
            <a:gdLst>
              <a:gd name="textAreaLeft" fmla="*/ 463320 w 3362400"/>
              <a:gd name="textAreaRight" fmla="*/ 2660040 w 3362400"/>
              <a:gd name="textAreaTop" fmla="*/ 554760 h 3673440"/>
              <a:gd name="textAreaBottom" fmla="*/ 2948400 h 3673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Управляющая кнопка: назад 5"/>
          <p:cNvGrpSpPr/>
          <p:nvPr/>
        </p:nvGrpSpPr>
        <p:grpSpPr>
          <a:xfrm>
            <a:off x="7759800" y="5413320"/>
            <a:ext cx="1152360" cy="1152720"/>
            <a:chOff x="7759800" y="5413320"/>
            <a:chExt cx="1152360" cy="1152720"/>
          </a:xfrm>
        </p:grpSpPr>
        <p:pic>
          <p:nvPicPr>
            <p:cNvPr id="380" name="Управляющая кнопка: назад 5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413320"/>
              <a:ext cx="11523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812000" y="5445000"/>
              <a:ext cx="104292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РАВИЛЬНО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84" name="Управляющая кнопка: далее 4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385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Улыбающееся лицо 5"/>
          <p:cNvGrpSpPr/>
          <p:nvPr/>
        </p:nvGrpSpPr>
        <p:grpSpPr>
          <a:xfrm>
            <a:off x="2932200" y="1523880"/>
            <a:ext cx="3639960" cy="3426120"/>
            <a:chOff x="2932200" y="1523880"/>
            <a:chExt cx="3639960" cy="3426120"/>
          </a:xfrm>
        </p:grpSpPr>
        <p:pic>
          <p:nvPicPr>
            <p:cNvPr id="388" name="Улыбающееся лицо 5" descr=""/>
            <p:cNvPicPr/>
            <p:nvPr/>
          </p:nvPicPr>
          <p:blipFill>
            <a:blip r:embed="rId2"/>
            <a:stretch/>
          </p:blipFill>
          <p:spPr>
            <a:xfrm>
              <a:off x="2932200" y="1523880"/>
              <a:ext cx="3639960" cy="34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3505320" y="2041560"/>
              <a:ext cx="249372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-31608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Вопрос  8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Как называются клавиши для смены тембра (окраски) звука на аккордеоне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РЕГИСТРЫ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РЫЧАГ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92" name="Управляющая кнопка: далее 8"/>
          <p:cNvGrpSpPr/>
          <p:nvPr/>
        </p:nvGrpSpPr>
        <p:grpSpPr>
          <a:xfrm>
            <a:off x="7759800" y="5486400"/>
            <a:ext cx="1152360" cy="1152360"/>
            <a:chOff x="7759800" y="5486400"/>
            <a:chExt cx="1152360" cy="1152360"/>
          </a:xfrm>
        </p:grpSpPr>
        <p:pic>
          <p:nvPicPr>
            <p:cNvPr id="393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48640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7812000" y="551664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Управляющая кнопка: далее 4"/>
          <p:cNvSpPr/>
          <p:nvPr/>
        </p:nvSpPr>
        <p:spPr>
          <a:xfrm>
            <a:off x="3635280" y="278136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Управляющая кнопка: далее 5"/>
          <p:cNvSpPr/>
          <p:nvPr/>
        </p:nvSpPr>
        <p:spPr>
          <a:xfrm>
            <a:off x="3635280" y="4149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ДУМАЙ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99" name="Облако 3"/>
          <p:cNvGrpSpPr/>
          <p:nvPr/>
        </p:nvGrpSpPr>
        <p:grpSpPr>
          <a:xfrm>
            <a:off x="3151080" y="1468440"/>
            <a:ext cx="3468960" cy="3780000"/>
            <a:chOff x="3151080" y="1468440"/>
            <a:chExt cx="3468960" cy="3780000"/>
          </a:xfrm>
        </p:grpSpPr>
        <p:pic>
          <p:nvPicPr>
            <p:cNvPr id="400" name="Облако 3" descr=""/>
            <p:cNvPicPr/>
            <p:nvPr/>
          </p:nvPicPr>
          <p:blipFill>
            <a:blip r:embed="rId1"/>
            <a:stretch/>
          </p:blipFill>
          <p:spPr>
            <a:xfrm>
              <a:off x="3151080" y="1468440"/>
              <a:ext cx="3468960" cy="37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3666960" y="2039760"/>
              <a:ext cx="2197440" cy="23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Управляющая кнопка: назад 5"/>
          <p:cNvGrpSpPr/>
          <p:nvPr/>
        </p:nvGrpSpPr>
        <p:grpSpPr>
          <a:xfrm>
            <a:off x="7900920" y="5559480"/>
            <a:ext cx="1150920" cy="1152360"/>
            <a:chOff x="7900920" y="5559480"/>
            <a:chExt cx="1150920" cy="1152360"/>
          </a:xfrm>
        </p:grpSpPr>
        <p:pic>
          <p:nvPicPr>
            <p:cNvPr id="403" name="Управляющая кнопка: назад 5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900920" y="5559480"/>
              <a:ext cx="11509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795672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РАВИЛЬНО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07" name="Управляющая кнопка: далее 4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408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Улыбающееся лицо 5"/>
          <p:cNvSpPr/>
          <p:nvPr/>
        </p:nvSpPr>
        <p:spPr>
          <a:xfrm>
            <a:off x="2987640" y="1557360"/>
            <a:ext cx="3529080" cy="331164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9360">
            <a:solidFill>
              <a:srgbClr val="af3408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-31608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Вопрос  9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Каким цветом клавиши на аккордеоне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ЖЁЛТО-ЗЕЛЁНЫ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ЧЁРНО-БЕЛЫ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13" name="Управляющая кнопка: далее 8"/>
          <p:cNvGrpSpPr/>
          <p:nvPr/>
        </p:nvGrpSpPr>
        <p:grpSpPr>
          <a:xfrm>
            <a:off x="7759800" y="5486400"/>
            <a:ext cx="1152360" cy="1152360"/>
            <a:chOff x="7759800" y="5486400"/>
            <a:chExt cx="1152360" cy="1152360"/>
          </a:xfrm>
        </p:grpSpPr>
        <p:pic>
          <p:nvPicPr>
            <p:cNvPr id="414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48640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7812000" y="551664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Управляющая кнопка: далее 4"/>
          <p:cNvSpPr/>
          <p:nvPr/>
        </p:nvSpPr>
        <p:spPr>
          <a:xfrm>
            <a:off x="4859280" y="2852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Управляющая кнопка: далее 5"/>
          <p:cNvSpPr/>
          <p:nvPr/>
        </p:nvSpPr>
        <p:spPr>
          <a:xfrm>
            <a:off x="4859280" y="4149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-38736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Вопрос  1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6c5d"/>
                </a:solidFill>
                <a:latin typeface="Cambria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колько рядов кнопочек находится на правой клавиатуре гармони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45" name="Управляющая кнопка: далее 8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24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Управляющая кнопка: далее 6">
            <a:hlinkClick r:id="rId2" action="ppaction://hlinksldjump"/>
          </p:cNvPr>
          <p:cNvSpPr/>
          <p:nvPr/>
        </p:nvSpPr>
        <p:spPr>
          <a:xfrm>
            <a:off x="1116000" y="249228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af3408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Управляющая кнопка: далее 7">
            <a:hlinkClick r:id="rId3" action="ppaction://hlinksldjump"/>
          </p:cNvPr>
          <p:cNvSpPr/>
          <p:nvPr/>
        </p:nvSpPr>
        <p:spPr>
          <a:xfrm>
            <a:off x="1116000" y="3933720"/>
            <a:ext cx="1041480" cy="10414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ДУМАЙ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Облако 3"/>
          <p:cNvSpPr/>
          <p:nvPr/>
        </p:nvSpPr>
        <p:spPr>
          <a:xfrm>
            <a:off x="3203640" y="1484280"/>
            <a:ext cx="3362400" cy="3673440"/>
          </a:xfrm>
          <a:custGeom>
            <a:avLst/>
            <a:gdLst>
              <a:gd name="textAreaLeft" fmla="*/ 463320 w 3362400"/>
              <a:gd name="textAreaRight" fmla="*/ 2660040 w 3362400"/>
              <a:gd name="textAreaTop" fmla="*/ 554760 h 3673440"/>
              <a:gd name="textAreaBottom" fmla="*/ 2948400 h 3673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Управляющая кнопка: назад 5"/>
          <p:cNvGrpSpPr/>
          <p:nvPr/>
        </p:nvGrpSpPr>
        <p:grpSpPr>
          <a:xfrm>
            <a:off x="7900920" y="5632560"/>
            <a:ext cx="1150920" cy="1152360"/>
            <a:chOff x="7900920" y="5632560"/>
            <a:chExt cx="1150920" cy="1152360"/>
          </a:xfrm>
        </p:grpSpPr>
        <p:pic>
          <p:nvPicPr>
            <p:cNvPr id="422" name="Управляющая кнопка: назад 5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900920" y="5632560"/>
              <a:ext cx="11509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7956720" y="566100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РАВИЛЬНО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26" name="Управляющая кнопка: далее 4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427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Улыбающееся лицо 5"/>
          <p:cNvGrpSpPr/>
          <p:nvPr/>
        </p:nvGrpSpPr>
        <p:grpSpPr>
          <a:xfrm>
            <a:off x="2932200" y="1523880"/>
            <a:ext cx="3639960" cy="3426120"/>
            <a:chOff x="2932200" y="1523880"/>
            <a:chExt cx="3639960" cy="3426120"/>
          </a:xfrm>
        </p:grpSpPr>
        <p:pic>
          <p:nvPicPr>
            <p:cNvPr id="430" name="Улыбающееся лицо 5" descr=""/>
            <p:cNvPicPr/>
            <p:nvPr/>
          </p:nvPicPr>
          <p:blipFill>
            <a:blip r:embed="rId2"/>
            <a:stretch/>
          </p:blipFill>
          <p:spPr>
            <a:xfrm>
              <a:off x="2932200" y="1523880"/>
              <a:ext cx="3639960" cy="34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3505320" y="2041560"/>
              <a:ext cx="249372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4" name="Picture 2" descr="C:\Users\Светлана\Desktop\аккордеон 7.jpg"/>
          <p:cNvPicPr/>
          <p:nvPr/>
        </p:nvPicPr>
        <p:blipFill>
          <a:blip r:embed="rId1"/>
          <a:srcRect l="0" t="4071" r="2728" b="13220"/>
          <a:stretch/>
        </p:blipFill>
        <p:spPr>
          <a:xfrm>
            <a:off x="611280" y="26028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43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f6c5d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6000" spc="-1" strike="noStrike">
                <a:solidFill>
                  <a:srgbClr val="696464"/>
                </a:solidFill>
                <a:latin typeface="Calibri"/>
              </a:rPr>
              <a:t>МОЛОДЕЦ!!!</a:t>
            </a:r>
            <a:br>
              <a:rPr sz="3600"/>
            </a:br>
            <a:br>
              <a:rPr sz="3600"/>
            </a:b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6c5d"/>
                </a:solidFill>
                <a:latin typeface="Cambri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6c5d"/>
                </a:solidFill>
                <a:latin typeface="Cambria"/>
              </a:rPr>
              <a:t>ТЫ  ПРАВИЛЬНО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6c5d"/>
                </a:solidFill>
                <a:latin typeface="Cambria"/>
              </a:rPr>
              <a:t>ОТВЕТИЛ (А) 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6c5d"/>
                </a:solidFill>
                <a:latin typeface="Cambria"/>
              </a:rPr>
              <a:t>НА  ВСЕ  ВОПРОСЫ!!!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4-конечная звезда 5"/>
          <p:cNvSpPr/>
          <p:nvPr/>
        </p:nvSpPr>
        <p:spPr>
          <a:xfrm>
            <a:off x="4356000" y="4941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28e6a"/>
          </a:solidFill>
          <a:ln w="38160">
            <a:solidFill>
              <a:srgbClr val="ffff00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4-конечная звезда 8"/>
          <p:cNvSpPr/>
          <p:nvPr/>
        </p:nvSpPr>
        <p:spPr>
          <a:xfrm>
            <a:off x="1187280" y="2708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56251"/>
          </a:solidFill>
          <a:ln w="38160">
            <a:solidFill>
              <a:srgbClr val="92d050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4-конечная звезда 9"/>
          <p:cNvSpPr/>
          <p:nvPr/>
        </p:nvSpPr>
        <p:spPr>
          <a:xfrm>
            <a:off x="324000" y="33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38160">
            <a:solidFill>
              <a:srgbClr val="f4b39b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4-конечная звезда 10"/>
          <p:cNvSpPr/>
          <p:nvPr/>
        </p:nvSpPr>
        <p:spPr>
          <a:xfrm>
            <a:off x="7667640" y="404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28e6a"/>
          </a:solidFill>
          <a:ln w="38160">
            <a:solidFill>
              <a:srgbClr val="ffc000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4-конечная звезда 11"/>
          <p:cNvSpPr/>
          <p:nvPr/>
        </p:nvSpPr>
        <p:spPr>
          <a:xfrm>
            <a:off x="7164360" y="2852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38160">
            <a:solidFill>
              <a:srgbClr val="00b0f0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ДУМАЙ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52" name="Облако 3"/>
          <p:cNvGrpSpPr/>
          <p:nvPr/>
        </p:nvGrpSpPr>
        <p:grpSpPr>
          <a:xfrm>
            <a:off x="3151080" y="1468440"/>
            <a:ext cx="3468960" cy="3780000"/>
            <a:chOff x="3151080" y="1468440"/>
            <a:chExt cx="3468960" cy="3780000"/>
          </a:xfrm>
        </p:grpSpPr>
        <p:pic>
          <p:nvPicPr>
            <p:cNvPr id="253" name="Облако 3" descr=""/>
            <p:cNvPicPr/>
            <p:nvPr/>
          </p:nvPicPr>
          <p:blipFill>
            <a:blip r:embed="rId1"/>
            <a:stretch/>
          </p:blipFill>
          <p:spPr>
            <a:xfrm>
              <a:off x="3151080" y="1468440"/>
              <a:ext cx="3468960" cy="37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666960" y="2039760"/>
              <a:ext cx="2197440" cy="23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812000" y="5589720"/>
            <a:ext cx="1042920" cy="10411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37" h="21600">
                <a:moveTo>
                  <a:pt x="0" y="0"/>
                </a:moveTo>
                <a:lnTo>
                  <a:pt x="21637" y="0"/>
                </a:lnTo>
                <a:lnTo>
                  <a:pt x="21637" y="21600"/>
                </a:lnTo>
                <a:lnTo>
                  <a:pt x="0" y="21600"/>
                </a:lnTo>
                <a:close/>
              </a:path>
              <a:path fill="lightenLess" w="21637" h="21600">
                <a:moveTo>
                  <a:pt x="0" y="0"/>
                </a:moveTo>
                <a:lnTo>
                  <a:pt x="21637" y="0"/>
                </a:lnTo>
                <a:lnTo>
                  <a:pt x="20237" y="1400"/>
                </a:lnTo>
                <a:lnTo>
                  <a:pt x="1400" y="1400"/>
                </a:lnTo>
                <a:close/>
              </a:path>
              <a:path fill="darken" w="21637" h="21600">
                <a:moveTo>
                  <a:pt x="21637" y="0"/>
                </a:moveTo>
                <a:lnTo>
                  <a:pt x="21637" y="21600"/>
                </a:lnTo>
                <a:lnTo>
                  <a:pt x="20237" y="20200"/>
                </a:lnTo>
                <a:lnTo>
                  <a:pt x="20237" y="1400"/>
                </a:lnTo>
                <a:close/>
              </a:path>
              <a:path fill="darkenLess" w="21637" h="21600">
                <a:moveTo>
                  <a:pt x="21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7" y="20200"/>
                </a:lnTo>
                <a:close/>
              </a:path>
              <a:path fill="lighten" w="21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7" h="21600">
                <a:moveTo>
                  <a:pt x="3812" y="10800"/>
                </a:moveTo>
                <a:lnTo>
                  <a:pt x="17825" y="3794"/>
                </a:lnTo>
                <a:lnTo>
                  <a:pt x="17825" y="17806"/>
                </a:lnTo>
                <a:close/>
              </a:path>
            </a:pathLst>
          </a:custGeom>
          <a:solidFill>
            <a:srgbClr val="e99d93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РАВИЛЬНО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58" name="Управляющая кнопка: далее 4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259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Улыбающееся лицо 5"/>
          <p:cNvGrpSpPr/>
          <p:nvPr/>
        </p:nvGrpSpPr>
        <p:grpSpPr>
          <a:xfrm>
            <a:off x="3005280" y="1596960"/>
            <a:ext cx="3639960" cy="3425760"/>
            <a:chOff x="3005280" y="1596960"/>
            <a:chExt cx="3639960" cy="3425760"/>
          </a:xfrm>
        </p:grpSpPr>
        <p:pic>
          <p:nvPicPr>
            <p:cNvPr id="262" name="Улыбающееся лицо 5" descr=""/>
            <p:cNvPicPr/>
            <p:nvPr/>
          </p:nvPicPr>
          <p:blipFill>
            <a:blip r:embed="rId2"/>
            <a:stretch/>
          </p:blipFill>
          <p:spPr>
            <a:xfrm>
              <a:off x="3005280" y="1596960"/>
              <a:ext cx="363996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576600" y="2114640"/>
              <a:ext cx="2495520" cy="23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-3160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Вопрос  2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620640"/>
            <a:ext cx="8507520" cy="62373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6c5d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Как располагаются ряды для игры баса и аккорда на левой клавиатуре гармони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ГОРИЗОНТАЛЬНО</a:t>
            </a: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__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ВЕРТИКАЛЬНО</a:t>
            </a:r>
            <a:r>
              <a:rPr b="1" lang="en-US" sz="3600" spc="-1" strike="noStrike">
                <a:solidFill>
                  <a:srgbClr val="4a3128"/>
                </a:solidFill>
                <a:latin typeface="Perpetu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66" name="Управляющая кнопка: далее 8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267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Управляющая кнопка: далее 5">
            <a:hlinkClick r:id="rId2" action="ppaction://hlinksldjump"/>
          </p:cNvPr>
          <p:cNvSpPr/>
          <p:nvPr/>
        </p:nvSpPr>
        <p:spPr>
          <a:xfrm>
            <a:off x="5580000" y="2708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Управляющая кнопка: далее 6">
            <a:hlinkClick r:id="rId3" action="ppaction://hlinksldjump"/>
          </p:cNvPr>
          <p:cNvSpPr/>
          <p:nvPr/>
        </p:nvSpPr>
        <p:spPr>
          <a:xfrm>
            <a:off x="558000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ДУМАЙ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Облако 3"/>
          <p:cNvSpPr/>
          <p:nvPr/>
        </p:nvSpPr>
        <p:spPr>
          <a:xfrm>
            <a:off x="3203640" y="1484280"/>
            <a:ext cx="3362400" cy="3673440"/>
          </a:xfrm>
          <a:custGeom>
            <a:avLst/>
            <a:gdLst>
              <a:gd name="textAreaLeft" fmla="*/ 463320 w 3362400"/>
              <a:gd name="textAreaRight" fmla="*/ 2660040 w 3362400"/>
              <a:gd name="textAreaTop" fmla="*/ 554760 h 3673440"/>
              <a:gd name="textAreaBottom" fmla="*/ 2948400 h 3673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Управляющая кнопка: назад 5"/>
          <p:cNvGrpSpPr/>
          <p:nvPr/>
        </p:nvGrpSpPr>
        <p:grpSpPr>
          <a:xfrm>
            <a:off x="7827840" y="5486400"/>
            <a:ext cx="1150920" cy="1152360"/>
            <a:chOff x="7827840" y="5486400"/>
            <a:chExt cx="1150920" cy="1152360"/>
          </a:xfrm>
        </p:grpSpPr>
        <p:pic>
          <p:nvPicPr>
            <p:cNvPr id="275" name="Управляющая кнопка: назад 5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827840" y="5486400"/>
              <a:ext cx="11509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885080" y="5516640"/>
              <a:ext cx="10414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РАВИЛЬНО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79" name="Управляющая кнопка: далее 4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280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Улыбающееся лицо 5"/>
          <p:cNvSpPr/>
          <p:nvPr/>
        </p:nvSpPr>
        <p:spPr>
          <a:xfrm>
            <a:off x="3059280" y="1628640"/>
            <a:ext cx="3528720" cy="331308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9360">
            <a:solidFill>
              <a:srgbClr val="af3408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-3160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Вопрос  3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620640"/>
            <a:ext cx="8507520" cy="62373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6c5d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На каком инструменте играет крокодил Гена в песенке «Пусть бегут неуклюже…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НА БАЯН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3128"/>
                </a:solidFill>
                <a:latin typeface="Cambria"/>
              </a:rPr>
              <a:t>НА ГАРМОШК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85" name="Управляющая кнопка: далее 8"/>
          <p:cNvGrpSpPr/>
          <p:nvPr/>
        </p:nvGrpSpPr>
        <p:grpSpPr>
          <a:xfrm>
            <a:off x="7759800" y="5559480"/>
            <a:ext cx="1152360" cy="1152360"/>
            <a:chOff x="7759800" y="5559480"/>
            <a:chExt cx="1152360" cy="1152360"/>
          </a:xfrm>
        </p:grpSpPr>
        <p:pic>
          <p:nvPicPr>
            <p:cNvPr id="28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59800" y="555948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Управляющая кнопка: далее 4">
            <a:hlinkClick r:id="rId2" action="ppaction://hlinksldjump"/>
          </p:cNvPr>
          <p:cNvSpPr/>
          <p:nvPr/>
        </p:nvSpPr>
        <p:spPr>
          <a:xfrm>
            <a:off x="4427640" y="2708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Управляющая кнопка: далее 5">
            <a:hlinkClick r:id="rId3" action="ppaction://hlinksldjump"/>
          </p:cNvPr>
          <p:cNvSpPr/>
          <p:nvPr/>
        </p:nvSpPr>
        <p:spPr>
          <a:xfrm>
            <a:off x="4427640" y="3933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8T20:22:18Z</dcterms:created>
  <dc:creator>Светлана</dc:creator>
  <dc:description/>
  <dc:language>en-US</dc:language>
  <cp:lastModifiedBy>Светлана</cp:lastModifiedBy>
  <dcterms:modified xsi:type="dcterms:W3CDTF">2020-03-23T11:50:35Z</dcterms:modified>
  <cp:revision>52</cp:revision>
  <dc:subject/>
  <dc:title>Устройство аккордеона для 1 класса</dc:title>
</cp:coreProperties>
</file>